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5E35-9DD4-4EF0-8454-5041C502D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80A-62AD-4FC6-B5CC-7B82A53C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639-F40D-4E0A-A7C7-98B31E50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B70-B35A-4909-BDE4-7ED23D72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777-63D4-4462-93E5-9324E7EB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E08-24C5-4CB6-A1DA-D38FC1D8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26E-ADED-4AC5-803E-F3D6DED5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AE7-FA98-4570-BFFC-7C105FB9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DC2-F8E7-42E4-863F-E9D718C3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4CA-C217-48F8-BE4C-8B2C4AC1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E17-BC48-4572-93F2-0D5E01C9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E06-0E45-4BF0-B95B-8521346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4DE-B9C6-4E60-A21A-A15F6A17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1A8-84A4-4966-B8DD-746DB3486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2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LEGION</cp:lastModifiedBy>
  <dcterms:modified xsi:type="dcterms:W3CDTF">2017-07-06T06:32:40Z</dcterms:modified>
  <cp:revision>10</cp:revision>
  <dc:subject/>
  <dc:title>Directly and inversely proportional</dc:title>
</cp:coreProperties>
</file>